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F96-5BF3-4604-A9B5-3DC3A0DE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3AE-95A6-4049-84CF-8E90B25B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874-F08B-480E-9A81-90EE0E35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6E7-8E45-4C0A-B80E-4F6D26C6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086-AA27-4EA5-B93B-7EE6C027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F83-CA30-42B5-BAE7-57B9526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F7F-8674-4007-BA5F-072B841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E84-2CB6-4155-B4D9-EF4DB04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8B1-A66F-481B-83B3-283F5C5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479-EB84-4C77-AA54-4AC5A77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9CE-283F-4018-8ECC-2166376F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0AF-5D6C-4BFB-8F7C-E1E51F6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67676"/>
                </a:solidFill>
                <a:latin typeface="Apto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3F1-F694-4A8D-8D34-A0E76DCD4BEF}" type="slidenum">
              <a:rPr b="0" lang="ru-RU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-49320"/>
            <a:ext cx="121762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683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2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809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3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7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17:13:20Z</dcterms:created>
  <dc:creator>даша сучкова</dc:creator>
  <dc:description/>
  <dc:language>en-US</dc:language>
  <cp:lastModifiedBy>УМЦ</cp:lastModifiedBy>
  <dcterms:modified xsi:type="dcterms:W3CDTF">2025-03-25T12:17:03Z</dcterms:modified>
  <cp:revision>1</cp:revision>
  <dc:subject/>
  <dc:title>Презентация PowerPoint</dc:title>
</cp:coreProperties>
</file>